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DC7-9052-48F0-B7B1-26BC3A64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DCA7-5471-4452-AE7C-2DA9B541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890-030D-4C45-AE88-77B0DE26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D5F-4A9B-4317-BE20-DCD2DCEB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3E7-21A8-4285-B072-87ED1A72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168B-8369-4E09-B6E0-6C8E6101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2F2-5C44-41E1-8CB7-87C360E1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647-C840-415E-86AC-9D988E81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F5F-FBFF-4867-B28A-297FB11D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1CB-E9D1-416E-90A2-E7BCC3CD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0EA-C470-4CBE-AEDB-211175F4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C8F-A531-44FE-A442-C07028F2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A6DF-FAE8-4CBB-BA86-FFB94E3F6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Modeling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imation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ouncing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Animation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38360" y="1695600"/>
            <a:ext cx="586728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Animation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585720"/>
            <a:ext cx="76197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Animation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76480" y="1695600"/>
            <a:ext cx="499104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Animation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585720"/>
            <a:ext cx="76197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Animation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76480" y="1695600"/>
            <a:ext cx="499104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Animation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585720"/>
            <a:ext cx="76197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Animation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610000" y="1695600"/>
            <a:ext cx="392400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Animation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90920" y="1924200"/>
            <a:ext cx="39621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Animation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Animation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585720"/>
            <a:ext cx="76197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Animation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585720"/>
            <a:ext cx="76197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Animation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585720"/>
            <a:ext cx="76197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Animation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Animation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585720"/>
            <a:ext cx="76197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Animation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67200" y="1695600"/>
            <a:ext cx="300960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  <a:ea typeface="Dotum"/>
              </a:rPr>
              <a:t>GPH 338 Computer Animation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Lucida Sans Unicode"/>
              </a:rPr>
              <a:t>Animation Bas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585720"/>
            <a:ext cx="76197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5T20:19:32Z</dcterms:created>
  <dc:creator>dpumedia</dc:creator>
  <dc:description/>
  <dc:language>en-US</dc:language>
  <cp:lastModifiedBy>dpumedia</cp:lastModifiedBy>
  <dcterms:modified xsi:type="dcterms:W3CDTF">2003-01-22T23:20:28Z</dcterms:modified>
  <cp:revision>15</cp:revision>
  <dc:subject/>
  <dc:title>Slide 1</dc:title>
</cp:coreProperties>
</file>